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D7C78-50C5-4B51-A246-AC99AF2943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46C94-91B3-4639-A1FC-EEBC6BEE07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93F6E-2727-4D6B-A2C2-2A0010773E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3E465-17B3-4D88-9D1B-A6C75800F2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828800" y="74880"/>
            <a:ext cx="594360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6D953-5FF9-4BD8-850C-30887E530F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8D9B8-7B40-49C6-A0EF-B4F14EA936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D2C4B-9E28-4FBA-800C-6BBA19B485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4A135-8D7F-4BAD-82F2-EDB79A7A9A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8800" y="74880"/>
            <a:ext cx="594360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9473A-2788-40B7-8BC2-1203ABFEEB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AC112-B11D-4395-8E03-9498A90CFF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F2F00-55A7-4C01-AF86-D1F08A4F9B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B0B64-DDB5-4461-930D-B042C90F69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85800"/>
            <a:ext cx="9144000" cy="152280"/>
          </a:xfrm>
          <a:prstGeom prst="rect">
            <a:avLst/>
          </a:prstGeom>
          <a:solidFill>
            <a:srgbClr val="466e6c"/>
          </a:solidFill>
          <a:ln w="6480">
            <a:solidFill>
              <a:srgbClr val="000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8229600" y="6629040"/>
            <a:ext cx="914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age </a:t>
            </a:r>
            <a:fld id="{5C600550-E49F-400E-B366-B56A1F99B9A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71600" cy="68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3240" y="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94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168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396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66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509760"/>
          </a:xfrm>
          <a:prstGeom prst="rect">
            <a:avLst/>
          </a:prstGeom>
          <a:solidFill>
            <a:srgbClr val="466e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46480" y="2895480"/>
            <a:ext cx="5883120" cy="76320"/>
          </a:xfrm>
          <a:prstGeom prst="rect">
            <a:avLst/>
          </a:prstGeom>
          <a:solidFill>
            <a:srgbClr val="466e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37920" y="1994040"/>
            <a:ext cx="5791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62120" y="588960"/>
            <a:ext cx="1600200" cy="8589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61960" y="2240280"/>
            <a:ext cx="6172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COT Upd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20640" y="3081240"/>
            <a:ext cx="5808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Hinsle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tober 21, 200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Verdana"/>
              </a:rPr>
              <a:t>Organization Strawman</a:t>
            </a: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8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504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8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504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371600" y="990720"/>
          <a:ext cx="6477120" cy="533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990720"/>
                    <a:ext cx="6477120" cy="53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8FD50-7CE8-481D-9662-B75B92EF38F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Verdana"/>
              </a:rPr>
              <a:t>Process Flow</a:t>
            </a: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28600" y="990720"/>
          <a:ext cx="868680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90720"/>
                    <a:ext cx="86868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1BD4B-2B07-46EC-813C-8A64C402B14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4T22:11:48Z</dcterms:created>
  <dc:creator/>
  <dc:description/>
  <dc:language>en-US</dc:language>
  <cp:lastModifiedBy>tdoggett</cp:lastModifiedBy>
  <cp:lastPrinted>2000-10-23T20:56:55Z</cp:lastPrinted>
  <dcterms:modified xsi:type="dcterms:W3CDTF">2005-10-20T15:49:15Z</dcterms:modified>
  <cp:revision>627</cp:revision>
  <dc:subject/>
  <dc:title>No Slide Title</dc:title>
</cp:coreProperties>
</file>